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FCD8-E747-4E0D-B8E3-7BF34E54D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DDEE-6CE4-4C04-9181-26AA9822C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B937-BCC0-41FC-BD84-300408A4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269E-84AA-4D2D-B970-30EF426E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4F2A-B269-4BCB-A96F-9D0A176EB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5C94-26EF-4101-BEFB-2832011F7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C98B-0078-41FA-A929-3880588BB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A38F-55CE-43AE-BD63-ED183D005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BE48-0549-48D9-944A-F9E1DA8DD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D22E-E6B9-46C7-A584-D5FC3CCA0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9619-FF26-42ED-82E8-43139706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F79F-E503-4819-8EF2-1E2014DEF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E2D7-B2C2-4ED7-92AB-E044A2CD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5CA8-F609-457D-B02E-4477E0D7D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99ED-A30D-4933-9993-B5999907D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50F8-7652-4F8F-A7BE-96E2E022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A616-EF78-440A-B263-225B1ECE8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8268-DF47-4902-90DE-46F8843A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34D0-0EC6-429C-8E6E-4AE169C93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8F33-5FE3-4C99-A121-9625931C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151-CFBB-4215-AA14-F289BB9D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2DA0-D291-4223-B147-0FD9E86FA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6D3D-EDE8-4D08-9D97-04A29F7BD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BBB8-CD03-4562-AB05-5C461A7F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21EA-4546-4479-A82D-C36FA3E9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60C9-B984-4076-BBFF-FBEB9F09A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64FC-9769-47E8-9B3C-0E36CD3A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4635-4C80-485E-8870-93835E31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85EA-751B-4A1A-9414-86639801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A34A-756B-4572-8333-683AE8B8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903-CE25-49AC-AEAF-29783CA6C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3560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405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426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5"/>
          <p:cNvSpPr/>
          <p:nvPr/>
        </p:nvSpPr>
        <p:spPr>
          <a:xfrm>
            <a:off x="39600" y="655308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2014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4419720" y="1676520"/>
            <a:ext cx="4647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lectrochemis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419720" y="1143000"/>
            <a:ext cx="47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e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4419720" y="5791320"/>
            <a:ext cx="4724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ison So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80924Tro3e_ecat.jpg"/>
          <p:cNvPicPr/>
          <p:nvPr/>
        </p:nvPicPr>
        <p:blipFill>
          <a:blip r:embed="rId1"/>
          <a:stretch/>
        </p:blipFill>
        <p:spPr>
          <a:xfrm>
            <a:off x="304920" y="990720"/>
            <a:ext cx="40939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57200" y="914400"/>
            <a:ext cx="85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e salt bridge in an electrochemic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2133720"/>
            <a:ext cx="78487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intain electrical neutrality in the half-cel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a migration of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source of ions to react at the ano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cath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oxygen to facilitate oxidation at the a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means for electrons to travel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node to the cath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means for electrons to travel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thode to the a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57200" y="914400"/>
            <a:ext cx="85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e salt bridge in an electrochemic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2133720"/>
            <a:ext cx="80773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intain electrical neutrality in the half-cell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a migration of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source of ions to react at the ano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cath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oxygen to facilitate oxidation at the a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means for electrons to travel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node to the cath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means for electrons to travel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thode to the a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57200" y="914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reducing agent in the follow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chemical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2438280"/>
            <a:ext cx="84027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no reducing agent in an electrochemical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2089800" y="182880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 (s) | N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q) || A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q) | Ag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914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reducing agent in the follow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chemical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2438280"/>
            <a:ext cx="84027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no reducing agent in an electrochemical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089800" y="182880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 (s) | N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q) || A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q) | Ag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914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is the best reducing ag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2108160"/>
            <a:ext cx="1752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819520" y="2071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2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819520" y="2795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Z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Z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819520" y="3519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8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914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is the best reducing ag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2108160"/>
            <a:ext cx="1752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819520" y="2071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2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819520" y="2795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Z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Z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819520" y="3519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8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914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cell potential for the following reaction  under standard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2717640"/>
            <a:ext cx="2286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2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2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958400" y="198108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→ Cu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819520" y="2986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3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2819520" y="39765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2.3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914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cell potential for the following reaction  under standard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7200" y="2717640"/>
            <a:ext cx="2286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2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2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958400" y="198108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→ Cu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819520" y="2986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3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819520" y="39765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2.3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metals will dissolve in nitric acid but not in hydrochloric ac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2717640"/>
            <a:ext cx="1371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18_01_Table.jpg"/>
          <p:cNvPicPr/>
          <p:nvPr/>
        </p:nvPicPr>
        <p:blipFill>
          <a:blip r:embed="rId1"/>
          <a:srcRect l="0" t="16076" r="0" b="28631"/>
          <a:stretch/>
        </p:blipFill>
        <p:spPr>
          <a:xfrm>
            <a:off x="2590920" y="1828800"/>
            <a:ext cx="610056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metals will dissolve in nitric acid but not in hydrochloric ac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2717640"/>
            <a:ext cx="1371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18_01_Table.jpg"/>
          <p:cNvPicPr/>
          <p:nvPr/>
        </p:nvPicPr>
        <p:blipFill>
          <a:blip r:embed="rId1"/>
          <a:srcRect l="0" t="16076" r="0" b="28631"/>
          <a:stretch/>
        </p:blipFill>
        <p:spPr>
          <a:xfrm>
            <a:off x="2590920" y="1828800"/>
            <a:ext cx="610056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572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coefficient of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following redox equation is bala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2438280"/>
            <a:ext cx="7696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0"/>
          <p:cNvSpPr/>
          <p:nvPr/>
        </p:nvSpPr>
        <p:spPr>
          <a:xfrm>
            <a:off x="1143000" y="169056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F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+ M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ヒラギノ角ゴ Pro W3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→ F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+ M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9144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cell that employs the following overal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 for the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3973680"/>
            <a:ext cx="8229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3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48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3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7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1439640" y="1828800"/>
            <a:ext cx="630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+  3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→  2 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+  6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133720" y="2867040"/>
            <a:ext cx="4952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dec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ヒラギノ角ゴ Pro W3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→ 2 I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0.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dec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3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+ 3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→ Al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–1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9144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cell that employs the following overal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 for the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3973680"/>
            <a:ext cx="8229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3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48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3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7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439640" y="1828800"/>
            <a:ext cx="630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+  3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→  2 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+  6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133720" y="2867040"/>
            <a:ext cx="4952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dec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ヒラギノ角ゴ Pro W3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→ 2 I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0.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dec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3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+ 3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→ Al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–1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914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the equilibrium constant when the cell potential is found to be −0.29 V for a transfer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moles of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57200" y="2565360"/>
            <a:ext cx="41353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.6 ×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6.4 ×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80880" y="914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the equilibrium constant when the cell potential is found to be −0.29 V for a transfer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moles of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" y="2565360"/>
            <a:ext cx="41353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.6 × 10</a:t>
            </a:r>
            <a:r>
              <a:rPr b="1" lang="de-D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6.4 ×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18_09_Figure.jpg"/>
          <p:cNvPicPr/>
          <p:nvPr/>
        </p:nvPicPr>
        <p:blipFill>
          <a:blip r:embed="rId1"/>
          <a:srcRect l="0" t="0" r="0" b="3166"/>
          <a:stretch/>
        </p:blipFill>
        <p:spPr>
          <a:xfrm>
            <a:off x="3657600" y="3352680"/>
            <a:ext cx="4025880" cy="3225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914400"/>
            <a:ext cx="8534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cell potential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an electrochemical  cell at 298 K with Mg/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Fe/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des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20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[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05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" y="3556080"/>
            <a:ext cx="2590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57200" y="22096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→ Fe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0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→ Mg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2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18_09_Figure.jpg"/>
          <p:cNvPicPr/>
          <p:nvPr/>
        </p:nvPicPr>
        <p:blipFill>
          <a:blip r:embed="rId1"/>
          <a:srcRect l="0" t="0" r="0" b="3166"/>
          <a:stretch/>
        </p:blipFill>
        <p:spPr>
          <a:xfrm>
            <a:off x="3657600" y="3352680"/>
            <a:ext cx="4025880" cy="3225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457200" y="914400"/>
            <a:ext cx="8534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cell potential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an electrochemical  cell at 298 K with Mg/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Fe/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des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20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[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05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3556080"/>
            <a:ext cx="2590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57200" y="22096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→ Fe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0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→ Mg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2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18_12_Figure.jpg"/>
          <p:cNvPicPr/>
          <p:nvPr/>
        </p:nvPicPr>
        <p:blipFill>
          <a:blip r:embed="rId1"/>
          <a:srcRect l="50247" t="5290" r="0" b="0"/>
          <a:stretch/>
        </p:blipFill>
        <p:spPr>
          <a:xfrm>
            <a:off x="3733920" y="2133720"/>
            <a:ext cx="4246560" cy="4543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457200" y="914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centration cell is assembled with a copper anode and cathode. One cell has [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25 M and the other has [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2.5 M. What is the cell potent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2565360"/>
            <a:ext cx="2590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3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3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9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9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18_12_Figure.jpg"/>
          <p:cNvPicPr/>
          <p:nvPr/>
        </p:nvPicPr>
        <p:blipFill>
          <a:blip r:embed="rId1"/>
          <a:srcRect l="50247" t="5290" r="0" b="0"/>
          <a:stretch/>
        </p:blipFill>
        <p:spPr>
          <a:xfrm>
            <a:off x="3733920" y="2133720"/>
            <a:ext cx="4246560" cy="4543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457200" y="914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centration cell is assembled with a copper anode and cathode. One cell has [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25 M and the other has [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2.5 M. What is the cell potent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2565360"/>
            <a:ext cx="2590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3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3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9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9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mass of nickel can be plated from a solution containing N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 current of 3.6 A for 14 minu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" y="1981080"/>
            <a:ext cx="33526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9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8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7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7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mass of nickel can be plated from a solution containing N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 current of 3.6 A for 14 minu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7200" y="1981080"/>
            <a:ext cx="33526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9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8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7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7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coefficient of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following redox equation is bala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2438280"/>
            <a:ext cx="7696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1143000" y="169056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F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+ M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ヒラギノ角ゴ Pro W3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→ F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+ M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acrificial electrode     for i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2514600"/>
            <a:ext cx="79246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819520" y="2184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3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u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1.5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19520" y="2878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34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819520" y="42656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b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1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819520" y="4959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–0.2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819520" y="5653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2.37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819520" y="3571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3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F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03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acrificial electrode     for i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2514600"/>
            <a:ext cx="79246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819520" y="2184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3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u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1.5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819520" y="2878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34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2819520" y="42656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b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1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2819520" y="4959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–0.2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2819520" y="5653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2.37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2819520" y="3571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3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F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03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8_16_Figure.jpg"/>
          <p:cNvPicPr/>
          <p:nvPr/>
        </p:nvPicPr>
        <p:blipFill>
          <a:blip r:embed="rId1"/>
          <a:srcRect l="0" t="0" r="0" b="4181"/>
          <a:stretch/>
        </p:blipFill>
        <p:spPr>
          <a:xfrm>
            <a:off x="2743200" y="3154320"/>
            <a:ext cx="5553000" cy="2941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reaction occurs in a lead storage battery.  How many moles of electrons are transferred in the following balanced redox equation per reaction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7200" y="2895480"/>
            <a:ext cx="1905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160" y="1828800"/>
            <a:ext cx="9067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b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Pb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2 H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2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→ 2 Pb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2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8_16_Figure.jpg"/>
          <p:cNvPicPr/>
          <p:nvPr/>
        </p:nvPicPr>
        <p:blipFill>
          <a:blip r:embed="rId1"/>
          <a:srcRect l="0" t="0" r="0" b="4181"/>
          <a:stretch/>
        </p:blipFill>
        <p:spPr>
          <a:xfrm>
            <a:off x="2743200" y="3154320"/>
            <a:ext cx="5553000" cy="2941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reaction occurs in a lead storage battery.  How many moles of electrons are transferred in the following balanced redox equation per reaction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2895480"/>
            <a:ext cx="1905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8160" y="1828800"/>
            <a:ext cx="9067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b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Pb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2 H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2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→ 2 Pb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2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914400"/>
            <a:ext cx="76201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water molecules will there be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CN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alanced in 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3429000"/>
            <a:ext cx="58672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on the reacta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on the produc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on the reacta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on the produc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914400"/>
            <a:ext cx="76201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water molecules will there be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CN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alanced in 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57200" y="3429000"/>
            <a:ext cx="58672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on the reacta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on the produc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on the reacta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on the produc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18_03_Figure.jpg"/>
          <p:cNvPicPr/>
          <p:nvPr/>
        </p:nvPicPr>
        <p:blipFill>
          <a:blip r:embed="rId1"/>
          <a:srcRect l="0" t="0" r="0" b="2969"/>
          <a:stretch/>
        </p:blipFill>
        <p:spPr>
          <a:xfrm>
            <a:off x="4564080" y="2333520"/>
            <a:ext cx="3513240" cy="3000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ransformation could take place 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    an electrochemical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2284560"/>
            <a:ext cx="38862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→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→ V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→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 woul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s cath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 woul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s anod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8_03_Figure.jpg"/>
          <p:cNvPicPr/>
          <p:nvPr/>
        </p:nvPicPr>
        <p:blipFill>
          <a:blip r:embed="rId1"/>
          <a:srcRect l="0" t="0" r="0" b="2969"/>
          <a:stretch/>
        </p:blipFill>
        <p:spPr>
          <a:xfrm>
            <a:off x="4564080" y="2333520"/>
            <a:ext cx="3513240" cy="3000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ransformation could take place 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    an electrochemical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2284560"/>
            <a:ext cx="38862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→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→ V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→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 woul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s cath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 woul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s anod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6:19:00Z</dcterms:created>
  <dc:creator>laser</dc:creator>
  <dc:description/>
  <dc:language>en-US</dc:language>
  <cp:lastModifiedBy>whitney twining</cp:lastModifiedBy>
  <dcterms:modified xsi:type="dcterms:W3CDTF">2015-01-12T19:25:49Z</dcterms:modified>
  <cp:revision>5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